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1F79-86E4-4FB7-B232-35E66331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E396-2911-4159-9961-2732BE7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0C4F-6898-4D85-9730-6F7A59CB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FC66-507A-46ED-8DCC-BF6920CB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315C-EE1A-4C42-8A95-C4E3FFA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CA9-CE25-4358-8053-C943AA7D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93E-37B2-4168-801C-D2BE872D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E3F7-33C4-4FDD-9F7D-6228E45C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05BF-83B9-4CF6-8176-F2E6523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6E41-17B6-4FB4-A0CF-CB58E32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EAE2-CF3A-4252-84D6-F631DFE5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D20C-D1F1-4685-9ED1-AAA05DE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1B04-4681-49CA-AB57-A61E205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9AD-3CAD-4793-A9A1-B222EF1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B32-174B-410E-9BE6-932BF822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4429-6670-4E4D-A0CB-EE858309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3E7F-EE66-4A2F-AE97-C0076DBE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AC67-3E3B-4E9F-B44B-7058A82C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4462-E333-498D-A4BF-8805B3D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6E61-CE65-469A-A0F2-C296805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C9F1-5870-422E-84CF-D213116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0C25-B810-4EB2-8743-B78C6ABE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9FA8-8966-4007-863E-C8D833C2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CA1D-AC4C-49A4-8ADA-C4D9A44D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BC3C-2715-4EBE-83B8-C7A56A8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D637-E8C7-4629-A671-45936236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01D1-BC00-48A7-97C7-67BFE21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C017-93CE-4861-8B51-116B6D8B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96DE-1811-4890-814B-30E4B2F6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FA75-4E4E-4DC5-9421-48CF934D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0774-CE40-455F-B075-4F97EF69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107D-B961-48D6-897E-F1D29424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16EC-E6A6-448A-99D1-A386C1BB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A9C3-29D0-4765-B875-B139C41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88CE-D358-4F32-B928-56E3FB7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F4DB-F0A5-4A2F-AFB2-7AE32229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ECD7-793F-4B8E-B009-46387626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18D6-7EB1-4384-8CB7-0270C3F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15F4-2096-4D6E-8DF6-FE1ECD6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1BAC-390B-4EBD-97E5-4FDBE53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A363-909F-492D-903A-32B788D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751C-0A0E-4A4D-96C5-9C1AC444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70AC-AFF5-4AFB-9E07-254BF1DE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9854-BC61-4FE9-842D-226B9A5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6B05-4399-499C-83A0-0F24EA2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59F4-E23E-4B6A-AC0E-F12875C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88CA-505C-4F12-BB4D-07CFEAD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6157-EA44-4AD6-BCA2-467AF2C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0386-4A60-4F40-B8D4-29ED9BAAA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9BF-A377-4BC4-A2CD-9EE36925793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D27-2DBD-4627-84CF-99C620F3A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5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5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5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5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60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1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63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4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6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6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8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718-DF71-490A-B178-EBFDDC6ADAD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703440" y="1785960"/>
            <a:ext cx="770400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НАЦИОНАЛЬНЫЙ ПРОЕКТ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«Малое и среднее предпринимательство и поддержка индивидуальной предпринимательской инициативы»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428760" y="357120"/>
            <a:ext cx="82864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Между Администрацией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родского округа город Стерлитамак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и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сударственным Комитетом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 предпринимательству и туризму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дписано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Соглашение о реализации регионального проекта «Акселерация субъектов малого и среднего предпринимательства»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от  31.05.2019  № 62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42920" y="1857240"/>
          <a:ext cx="8858160" cy="4680000"/>
        </p:xfrm>
        <a:graphic>
          <a:graphicData uri="http://schemas.openxmlformats.org/drawingml/2006/table">
            <a:tbl>
              <a:tblPr/>
              <a:tblGrid>
                <a:gridCol w="1571760"/>
                <a:gridCol w="571320"/>
                <a:gridCol w="1143000"/>
                <a:gridCol w="857160"/>
                <a:gridCol w="841320"/>
                <a:gridCol w="841680"/>
                <a:gridCol w="507960"/>
                <a:gridCol w="504720"/>
                <a:gridCol w="503280"/>
                <a:gridCol w="503280"/>
                <a:gridCol w="506160"/>
                <a:gridCol w="506520"/>
              </a:tblGrid>
              <a:tr h="4399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 значе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ей 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одам реализации проекта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асчета (мм.гг)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5400">
                <a:tc>
                  <a:txBody>
                    <a:bodyPr lIns="54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численности занятых в сфере малого и среднего предпринимательства, включая индивидуальных предпринимателей, определенных для всех муниципальных образований Республики Башкортостан, к уровню 2017 года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8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0600">
                <a:tc>
                  <a:txBody>
                    <a:bodyPr lIns="54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малого и среднего предпринимательства в расчете на 10 тыс. человек населени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,4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8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,74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,6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,1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,45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92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78480"/>
            <a:ext cx="9144000" cy="16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ПОКАЗАТЕЛИ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регионального проекта «Акселерация субъектов малого и среднего предпринимательства»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по городскому округу г.Стерлитамак РБ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1000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В рамках подписанного Соглашения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азработан Сводный план мероприятий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родского округа город Стерлитамак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 достижению результатов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гионального проекта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«Акселерация субъектов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малого и среднего предпринимательства»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6072120" y="428760"/>
            <a:ext cx="307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На официальном сайте администрации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городского округа г.Стерлитамак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Республики Башкортостан создан раздел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«Малое и среднее предпринимательство»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5940360" cy="33415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"/>
          <p:cNvPicPr/>
          <p:nvPr/>
        </p:nvPicPr>
        <p:blipFill>
          <a:blip r:embed="rId2"/>
          <a:stretch/>
        </p:blipFill>
        <p:spPr>
          <a:xfrm>
            <a:off x="142920" y="71280"/>
            <a:ext cx="5940360" cy="33577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6"/>
          <p:cNvSpPr/>
          <p:nvPr/>
        </p:nvSpPr>
        <p:spPr>
          <a:xfrm>
            <a:off x="0" y="342900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В целях реализации мероприятий, предусмотренных в  Сводном плане, соответствующая информация для субъектов малого и среднего предпринимательства  размещена на официальном сайте администрации ГО г.Стерлитамак РБ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23:27:28Z</dcterms:created>
  <dc:creator>Ferrari</dc:creator>
  <dc:description/>
  <dc:language>en-US</dc:language>
  <cp:lastModifiedBy>Вед. специалист отдела предпринимательства</cp:lastModifiedBy>
  <cp:lastPrinted>2019-08-02T12:05:39Z</cp:lastPrinted>
  <dcterms:modified xsi:type="dcterms:W3CDTF">2019-10-31T12:10:30Z</dcterms:modified>
  <cp:revision>1303</cp:revision>
  <dc:subject/>
  <dc:title>Презентация PowerPoint</dc:title>
</cp:coreProperties>
</file>